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B1D-31F3-4F70-943F-81D363E4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DB4-695C-449A-971F-D14CA982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361-D535-4EDB-A4BB-03284B1A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6D0-4776-4AE1-88B6-01633967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4DE-127C-4C0E-9A61-51B580E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9D4-69AA-44B1-8071-13CA85C6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8D5-377C-4FA2-AB59-1E891BE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353-AC86-47FA-A1DF-013EE99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717-D342-4C2F-9798-B78B586A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B5C-2FE7-41BA-9ACB-A7A1466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3F1-3FB9-40C4-9D52-B4A87E7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AC0-ABD2-4E7E-BE0C-364D3DC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A3F7-0BE8-442A-87CF-95650874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6320" y="274320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rs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32920" y="84819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dlands, South Da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52440" y="7315200"/>
            <a:ext cx="7025760" cy="246240"/>
            <a:chOff x="352440" y="7315200"/>
            <a:chExt cx="7025760" cy="246240"/>
          </a:xfrm>
        </p:grpSpPr>
        <p:sp>
          <p:nvSpPr>
            <p:cNvPr id="44" name="Text Box 5"/>
            <p:cNvSpPr/>
            <p:nvPr/>
          </p:nvSpPr>
          <p:spPr>
            <a:xfrm>
              <a:off x="4076280" y="7315200"/>
              <a:ext cx="330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reg Kelly, Hanford High School, Richland, Washingt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352440" y="7315200"/>
              <a:ext cx="174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 by Vickie Kelly,  199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925560" y="22860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from Precalcul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4267080" y="1143000"/>
                <a:ext cx="381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Text Box 6"/>
          <p:cNvSpPr/>
          <p:nvPr/>
        </p:nvSpPr>
        <p:spPr>
          <a:xfrm>
            <a:off x="685800" y="114300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verse,            of the function       can be found by interchanging the domain and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2209680" y="1066680"/>
                <a:ext cx="343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Text Box 8"/>
          <p:cNvSpPr/>
          <p:nvPr/>
        </p:nvSpPr>
        <p:spPr>
          <a:xfrm>
            <a:off x="31680" y="22096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. The domain of       is equal to the range of      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9"/>
              <p:cNvSpPr txBox="1"/>
              <p:nvPr/>
            </p:nvSpPr>
            <p:spPr>
              <a:xfrm>
                <a:off x="4648320" y="2133720"/>
                <a:ext cx="342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1828800" y="2133720"/>
                <a:ext cx="609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Text Box 11"/>
          <p:cNvSpPr/>
          <p:nvPr/>
        </p:nvSpPr>
        <p:spPr>
          <a:xfrm>
            <a:off x="30240" y="28195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function composition on the two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2"/>
              <p:cNvSpPr txBox="1"/>
              <p:nvPr/>
            </p:nvSpPr>
            <p:spPr>
              <a:xfrm>
                <a:off x="533520" y="3608280"/>
                <a:ext cx="4503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13"/>
          <p:cNvSpPr/>
          <p:nvPr/>
        </p:nvSpPr>
        <p:spPr>
          <a:xfrm>
            <a:off x="475920" y="44956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ition of Inver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26160" y="5105520"/>
            <a:ext cx="56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5"/>
              <p:cNvSpPr txBox="1"/>
              <p:nvPr/>
            </p:nvSpPr>
            <p:spPr>
              <a:xfrm>
                <a:off x="609480" y="5994360"/>
                <a:ext cx="24768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16"/>
          <p:cNvSpPr/>
          <p:nvPr/>
        </p:nvSpPr>
        <p:spPr>
          <a:xfrm>
            <a:off x="3206520" y="614520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17400" y="6807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8"/>
              <p:cNvSpPr txBox="1"/>
              <p:nvPr/>
            </p:nvSpPr>
            <p:spPr>
              <a:xfrm>
                <a:off x="685800" y="7010280"/>
                <a:ext cx="2457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9"/>
              <p:cNvSpPr txBox="1"/>
              <p:nvPr/>
            </p:nvSpPr>
            <p:spPr>
              <a:xfrm>
                <a:off x="3386160" y="4427640"/>
                <a:ext cx="85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Text Box 20"/>
          <p:cNvSpPr/>
          <p:nvPr/>
        </p:nvSpPr>
        <p:spPr>
          <a:xfrm>
            <a:off x="3216960" y="711216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628640" y="101592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important properties of inverse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440" y="1523880"/>
            <a:ext cx="56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so the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2286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domain of          is equal to the range of      and the range of      is equal to the domain of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1295280" y="2590920"/>
                <a:ext cx="343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4114800" y="2514600"/>
                <a:ext cx="533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800600" y="2209680"/>
                <a:ext cx="343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1828800" y="2209680"/>
                <a:ext cx="628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1"/>
          <p:cNvSpPr/>
          <p:nvPr/>
        </p:nvSpPr>
        <p:spPr>
          <a:xfrm>
            <a:off x="304920" y="31240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Not all functions have an inverse function. If 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inverse function, it is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0" y="40384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the poi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, 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f the graph of       contain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, 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1676520" y="3962520"/>
                <a:ext cx="380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990720" y="4267080"/>
                <a:ext cx="34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Text Box 15"/>
          <p:cNvSpPr/>
          <p:nvPr/>
        </p:nvSpPr>
        <p:spPr>
          <a:xfrm>
            <a:off x="304920" y="51055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You can test for inverses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 line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hows that the function is one-to-one, meaning each output correspond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ct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inpu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that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ctly monoton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ir domains have inverse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84600" y="203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16440" y="15084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unctions has an inverse f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20280" y="861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914400" y="812880"/>
                <a:ext cx="220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543480" y="711360"/>
            <a:ext cx="2671560" cy="3854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97360" y="1674720"/>
            <a:ext cx="41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function is strictly monoton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n inverse. It would also pa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46320" y="4978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762120" y="4876920"/>
                <a:ext cx="22096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12"/>
          <p:cNvSpPr/>
          <p:nvPr/>
        </p:nvSpPr>
        <p:spPr>
          <a:xfrm>
            <a:off x="274680" y="2995560"/>
            <a:ext cx="24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note tha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ea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increa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3"/>
              <p:cNvSpPr txBox="1"/>
              <p:nvPr/>
            </p:nvSpPr>
            <p:spPr>
              <a:xfrm>
                <a:off x="1033560" y="2454120"/>
                <a:ext cx="2049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" name="Picture 15" descr=""/>
          <p:cNvPicPr/>
          <p:nvPr/>
        </p:nvPicPr>
        <p:blipFill>
          <a:blip r:embed="rId2"/>
          <a:stretch/>
        </p:blipFill>
        <p:spPr>
          <a:xfrm>
            <a:off x="3543480" y="4775040"/>
            <a:ext cx="2685960" cy="387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6"/>
          <p:cNvSpPr/>
          <p:nvPr/>
        </p:nvSpPr>
        <p:spPr>
          <a:xfrm>
            <a:off x="183600" y="584028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aph fails the HLT. So it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 and can’t have an inve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854360" y="30492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ivative of an Invers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83808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are asked to find the derivative of an inverse function, how can we d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develop the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70120" y="325116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the ident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3352680" y="3200400"/>
                <a:ext cx="208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8"/>
          <p:cNvSpPr/>
          <p:nvPr/>
        </p:nvSpPr>
        <p:spPr>
          <a:xfrm>
            <a:off x="20160" y="457200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 equation, w/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x, using chain 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9"/>
              <p:cNvSpPr txBox="1"/>
              <p:nvPr/>
            </p:nvSpPr>
            <p:spPr>
              <a:xfrm>
                <a:off x="3543480" y="4673520"/>
                <a:ext cx="28573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10"/>
          <p:cNvSpPr/>
          <p:nvPr/>
        </p:nvSpPr>
        <p:spPr>
          <a:xfrm>
            <a:off x="1023840" y="63482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49120" y="2286000"/>
            <a:ext cx="58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is the inverse of           , and we want to find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2"/>
              <p:cNvSpPr txBox="1"/>
              <p:nvPr/>
            </p:nvSpPr>
            <p:spPr>
              <a:xfrm>
                <a:off x="3276720" y="2209680"/>
                <a:ext cx="514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3"/>
              <p:cNvSpPr txBox="1"/>
              <p:nvPr/>
            </p:nvSpPr>
            <p:spPr>
              <a:xfrm>
                <a:off x="533520" y="2209680"/>
                <a:ext cx="838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5"/>
              <p:cNvSpPr txBox="1"/>
              <p:nvPr/>
            </p:nvSpPr>
            <p:spPr>
              <a:xfrm>
                <a:off x="2209680" y="6324480"/>
                <a:ext cx="10670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6"/>
              <p:cNvSpPr txBox="1"/>
              <p:nvPr/>
            </p:nvSpPr>
            <p:spPr>
              <a:xfrm>
                <a:off x="838080" y="2514600"/>
                <a:ext cx="1295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7"/>
              <p:cNvSpPr txBox="1"/>
              <p:nvPr/>
            </p:nvSpPr>
            <p:spPr>
              <a:xfrm>
                <a:off x="3600360" y="5892840"/>
                <a:ext cx="24195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18"/>
          <p:cNvSpPr/>
          <p:nvPr/>
        </p:nvSpPr>
        <p:spPr>
          <a:xfrm>
            <a:off x="3429000" y="5791320"/>
            <a:ext cx="262908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21040" y="252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200240" y="0"/>
                <a:ext cx="314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 Box 6"/>
          <p:cNvSpPr/>
          <p:nvPr/>
        </p:nvSpPr>
        <p:spPr>
          <a:xfrm>
            <a:off x="174960" y="147168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value of               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2514600" y="1295280"/>
                <a:ext cx="121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9"/>
          <p:cNvSpPr/>
          <p:nvPr/>
        </p:nvSpPr>
        <p:spPr>
          <a:xfrm>
            <a:off x="183240" y="2284560"/>
            <a:ext cx="46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3 is part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0"/>
              <p:cNvSpPr txBox="1"/>
              <p:nvPr/>
            </p:nvSpPr>
            <p:spPr>
              <a:xfrm>
                <a:off x="4800600" y="1752480"/>
                <a:ext cx="2057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5410080" y="2971800"/>
                <a:ext cx="914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12"/>
          <p:cNvSpPr/>
          <p:nvPr/>
        </p:nvSpPr>
        <p:spPr>
          <a:xfrm>
            <a:off x="914400" y="28954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1771560" y="3251160"/>
                <a:ext cx="1809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4"/>
          <p:cNvSpPr/>
          <p:nvPr/>
        </p:nvSpPr>
        <p:spPr>
          <a:xfrm>
            <a:off x="1714680" y="3149640"/>
            <a:ext cx="2095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18440" y="482436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value of                      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6"/>
              <p:cNvSpPr txBox="1"/>
              <p:nvPr/>
            </p:nvSpPr>
            <p:spPr>
              <a:xfrm>
                <a:off x="2743200" y="457200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1066680" y="5384880"/>
                <a:ext cx="3333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8"/>
              <p:cNvSpPr txBox="1"/>
              <p:nvPr/>
            </p:nvSpPr>
            <p:spPr>
              <a:xfrm>
                <a:off x="4400640" y="5384880"/>
                <a:ext cx="17715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9"/>
              <p:cNvSpPr txBox="1"/>
              <p:nvPr/>
            </p:nvSpPr>
            <p:spPr>
              <a:xfrm>
                <a:off x="2914560" y="7010280"/>
                <a:ext cx="666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20"/>
          <p:cNvSpPr/>
          <p:nvPr/>
        </p:nvSpPr>
        <p:spPr>
          <a:xfrm>
            <a:off x="2857680" y="6908760"/>
            <a:ext cx="74268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64160" y="353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085760" y="304920"/>
                <a:ext cx="2419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800600" y="0"/>
                <a:ext cx="20574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Text Box 7"/>
          <p:cNvSpPr/>
          <p:nvPr/>
        </p:nvSpPr>
        <p:spPr>
          <a:xfrm>
            <a:off x="279000" y="1471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914400" y="12193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9"/>
              <p:cNvSpPr txBox="1"/>
              <p:nvPr/>
            </p:nvSpPr>
            <p:spPr>
              <a:xfrm>
                <a:off x="3276720" y="1143000"/>
                <a:ext cx="30477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1143000" y="2743200"/>
                <a:ext cx="800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11"/>
          <p:cNvSpPr/>
          <p:nvPr/>
        </p:nvSpPr>
        <p:spPr>
          <a:xfrm>
            <a:off x="1999080" y="28940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s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2"/>
              <p:cNvSpPr txBox="1"/>
              <p:nvPr/>
            </p:nvSpPr>
            <p:spPr>
              <a:xfrm>
                <a:off x="3657600" y="2819520"/>
                <a:ext cx="2743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3"/>
              <p:cNvSpPr txBox="1"/>
              <p:nvPr/>
            </p:nvSpPr>
            <p:spPr>
              <a:xfrm>
                <a:off x="3581280" y="3595680"/>
                <a:ext cx="11271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4"/>
              <p:cNvSpPr txBox="1"/>
              <p:nvPr/>
            </p:nvSpPr>
            <p:spPr>
              <a:xfrm>
                <a:off x="5075280" y="3602160"/>
                <a:ext cx="1325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6"/>
              <p:cNvSpPr txBox="1"/>
              <p:nvPr/>
            </p:nvSpPr>
            <p:spPr>
              <a:xfrm>
                <a:off x="2274840" y="4570560"/>
                <a:ext cx="26780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7"/>
              <p:cNvSpPr txBox="1"/>
              <p:nvPr/>
            </p:nvSpPr>
            <p:spPr>
              <a:xfrm>
                <a:off x="1886040" y="6400800"/>
                <a:ext cx="2990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8"/>
              <p:cNvSpPr txBox="1"/>
              <p:nvPr/>
            </p:nvSpPr>
            <p:spPr>
              <a:xfrm>
                <a:off x="4952880" y="6477120"/>
                <a:ext cx="441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0"/>
              <p:cNvSpPr txBox="1"/>
              <p:nvPr/>
            </p:nvSpPr>
            <p:spPr>
              <a:xfrm>
                <a:off x="1066680" y="7416720"/>
                <a:ext cx="27291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21"/>
          <p:cNvSpPr/>
          <p:nvPr/>
        </p:nvSpPr>
        <p:spPr>
          <a:xfrm>
            <a:off x="3886200" y="7772400"/>
            <a:ext cx="1676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35080" y="7790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81080" y="304920"/>
            <a:ext cx="60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for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800280" y="203040"/>
                <a:ext cx="1562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3124080" y="304920"/>
                <a:ext cx="1067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4419720" y="304920"/>
                <a:ext cx="1676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8" name="Text Box 8"/>
          <p:cNvSpPr/>
          <p:nvPr/>
        </p:nvSpPr>
        <p:spPr>
          <a:xfrm>
            <a:off x="160200" y="963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hat the slopes of the graphs of the two functions are reciprocals of each other at the poi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04920" y="2031840"/>
                <a:ext cx="16668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3048120" y="182880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124560" y="299556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(2,4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2"/>
              <p:cNvSpPr txBox="1"/>
              <p:nvPr/>
            </p:nvSpPr>
            <p:spPr>
              <a:xfrm>
                <a:off x="3048120" y="3429000"/>
                <a:ext cx="3276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13"/>
          <p:cNvSpPr/>
          <p:nvPr/>
        </p:nvSpPr>
        <p:spPr>
          <a:xfrm>
            <a:off x="201960" y="42670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(4,2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4"/>
              <p:cNvSpPr txBox="1"/>
              <p:nvPr/>
            </p:nvSpPr>
            <p:spPr>
              <a:xfrm>
                <a:off x="3124080" y="4495680"/>
                <a:ext cx="33530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15"/>
          <p:cNvSpPr/>
          <p:nvPr/>
        </p:nvSpPr>
        <p:spPr>
          <a:xfrm>
            <a:off x="68040" y="563724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(3, 9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6"/>
              <p:cNvSpPr txBox="1"/>
              <p:nvPr/>
            </p:nvSpPr>
            <p:spPr>
              <a:xfrm>
                <a:off x="2971800" y="6248520"/>
                <a:ext cx="3124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17"/>
          <p:cNvSpPr/>
          <p:nvPr/>
        </p:nvSpPr>
        <p:spPr>
          <a:xfrm>
            <a:off x="259200" y="70102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(9,3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8"/>
              <p:cNvSpPr txBox="1"/>
              <p:nvPr/>
            </p:nvSpPr>
            <p:spPr>
              <a:xfrm>
                <a:off x="3505320" y="7467480"/>
                <a:ext cx="27432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18"/>
          <p:cNvSpPr/>
          <p:nvPr/>
        </p:nvSpPr>
        <p:spPr>
          <a:xfrm>
            <a:off x="4114800" y="12193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 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4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 9) and (9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7:06:20Z</dcterms:created>
  <dc:creator>St. Johns County Schools</dc:creator>
  <dc:description/>
  <dc:language>en-US</dc:language>
  <cp:lastModifiedBy>sraja</cp:lastModifiedBy>
  <dcterms:modified xsi:type="dcterms:W3CDTF">2011-05-02T17:55:07Z</dcterms:modified>
  <cp:revision>30</cp:revision>
  <dc:subject/>
  <dc:title>Slide 1</dc:title>
</cp:coreProperties>
</file>